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9BCDB-9EE5-41B0-8AC7-F397D86EF6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Номер слайда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5A8DF-43EB-4176-A02F-28132294B6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Номер слайда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E0085-B0D2-4422-AC1C-9E82D2BEF8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D263-E50B-41DC-90F5-E74DD4A3C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CAB5-ADF1-4D1A-B74B-B43753FB8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A7D3-3D54-4E4E-A1D4-6130C01C1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E458-EC74-4A06-BE71-38DFA0850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80969-BE2A-4AF2-B5BD-85F970B06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79C45-755C-47E2-AD9E-4600B13F1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9841E-C5AF-4D3D-8035-AD17F13AA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47B82-2106-47C3-8E94-52ED2B414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BBCBD-D94C-4DAF-823E-69C102B91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67161-7FAE-4A45-91FD-6B352E816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7FCD6-DC48-428D-A2CD-984313D1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B1B8-3B57-4A6E-8B1E-7ED1DF44A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0C950-856F-40AF-9FAA-C8489C6E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20B89-468D-4F4B-B10E-C98E850D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EDBD7-AFC5-42EF-AF72-62F41641D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8EC71-4E58-4BAB-9177-527ADA991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1270B-5694-4822-8936-B755AF8B4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09D22-6392-4428-A3DA-F74315A46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18B19-77FC-4F70-A223-E893FD518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0BEB9-E6D3-40A7-A400-699946D7A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9C181-99C2-4862-8EC1-C2A3E536F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3064C-A0D8-42F2-A69B-0942D1EA1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208F-5F17-4648-988C-9CEA8BF15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B036D-137A-436E-88A8-BDB22692F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219DF-FDFD-4691-B7A0-E041E2B0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ADDC2-150D-404E-AAB7-FA2D1C0C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F7E6C-A9B4-40A6-B814-50B2D10C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D1D78-966E-4CA7-9641-539274063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137E7-DAB7-4A5F-9383-2991A4428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4F108-F660-4A5A-9C3C-412F2B070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4BD31-CEF3-41BA-ABC0-93221DD27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DB861-567E-48BC-9FC0-22E342FEE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4C3AA-37FF-47FA-BD99-BBB4B8341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10A4-DB1A-4E04-A101-7F5400FAF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EF5A3-DE35-40C1-8F95-E473FEC78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92686-9785-4BCF-8B6A-35F6F6FC7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2ED85-7A02-4AED-A3AD-267409564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2F83B-C5D3-45F7-A4AF-7290C3A9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61832-0290-4E04-98F1-935D5219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FB1FC-A498-419D-BE56-7323B3F2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15EEB-946D-4E8F-88F3-4E564FB77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64ECD-40D3-4F00-A3C6-941749B96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0C550-3B1F-4561-81DF-50ECDA462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F85D6-C079-47EF-B183-7EAE55C7B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DE90-2F02-4EA7-AAE0-6D3B7CA62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5B702-4821-4921-8186-5829AC9FE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FBEEE-7105-4C73-A2D1-A06FC8980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7A78F-43C6-424A-94D1-A706B660E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39917-9465-48E7-BBF9-36AC482F0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AADA5-FC29-4865-AD64-7B3018FCF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9444A-13C9-41E9-8A3E-8BC8B6C9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65A89-6A14-4D1B-BEFA-00EBE22F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FE4B3-65F2-45AB-BF81-14E8A58D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49926-18F4-46FE-A878-BDEC5FEE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16DE9-7E66-4582-A5A5-F9AF8A185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C5C9-56DE-4325-901D-67E676571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1D4E4-59E5-4D58-8E3E-E27B4F208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5249E-4B3C-4F88-811B-41DAD59E1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2DA90A-E015-4669-AE15-F1B0289FB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D67A8-92BA-41D6-8DAB-4EB6C1074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BE35C3-A7D6-4FB0-A7E6-935036DFA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CA6CC1-B9A6-47C3-BA40-DDB97D38A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958F4-AC34-4A55-B420-CD353791B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18B58-BE66-44BE-A989-2B7FB7E6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3E99B2-0FF2-4F60-A9F8-29F52060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B9C50-D6A2-4C4A-8CC4-5FCCD4E3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D1D5-AC63-46A5-81D0-33297E29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ED29FC-A426-401E-9311-35684B843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DAA21-2202-44EF-A7D2-67E1DD252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2099A-8351-4EC3-BEA0-B313F2398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DC074-02D6-4A8D-8DD2-38116A457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A8E97C-7038-4C32-B329-7C1C064EB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B5AAEE-8735-4B22-9050-14D43EDAA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7D7DA-C704-418A-B1C6-A4C24B2A8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50B7BB-647E-4220-A832-7B3F8C0EF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3EB14-E588-40C7-8E81-1B36E4CB5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590AE-1FAC-48F0-8545-C85F8048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BAF6-3B72-4B15-A8D2-224BC7C5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FE7B9-9D01-401C-98DE-8994EAFB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B0EF1-A634-49C9-8765-9D3ADF72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93845-BAD2-46D1-94DA-BCA97C8F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0820A-C790-40CE-B0B1-6BD201E51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081D0-3814-4590-B7E2-C48B6531B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7BD2-78CF-48CE-921A-4D4DE9B0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BC2D6-C6A3-4E2A-BC6E-0FC1EB60C48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999B4-C6C1-4C00-A855-65D0F222A41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13DD-440E-40A1-B5FD-7212D5B3F9D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FAFDB-D81E-49B0-B036-60F60F1ED29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96A7-2D02-415C-AA1B-751963F8D4E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125B2-0A0C-4540-9E85-B52EF1F6D12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F86D3-B3E2-4777-9716-1F5DEAF40B9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abakova@krskstate.ru" TargetMode="External"/><Relationship Id="rId2" Type="http://schemas.openxmlformats.org/officeDocument/2006/relationships/hyperlink" Target="mailto:tabakova@krskstate.ru" TargetMode="External"/><Relationship Id="rId3" Type="http://schemas.openxmlformats.org/officeDocument/2006/relationships/hyperlink" Target="mailto:tabakova@krskstate.ru" TargetMode="External"/><Relationship Id="rId4" Type="http://schemas.openxmlformats.org/officeDocument/2006/relationships/hyperlink" Target="mailto:tabakova@krskstate.ru" TargetMode="External"/><Relationship Id="rId5" Type="http://schemas.openxmlformats.org/officeDocument/2006/relationships/hyperlink" Target="mailto:tabakova@krskstate.ru" TargetMode="External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adm-achinsk.ru/administratsiya/svedeniya-o-dokhodakh-i-imushchestve.html" TargetMode="External"/><Relationship Id="rId2" Type="http://schemas.openxmlformats.org/officeDocument/2006/relationships/hyperlink" Target="http://bogotolcity.ru/administration/reports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55640" y="3929040"/>
            <a:ext cx="7632720" cy="23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Candara"/>
              </a:rPr>
              <a:t>Сведения о доходах, расходах, об имуществе и обязательствах имущественного характера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52e65"/>
                </a:solidFill>
                <a:latin typeface="Candara"/>
              </a:rPr>
              <a:t> </a:t>
            </a:r>
            <a:r>
              <a:rPr b="1" lang="ru-RU" sz="1800" spc="-1" strike="noStrike">
                <a:solidFill>
                  <a:srgbClr val="052e65"/>
                </a:solidFill>
                <a:latin typeface="Candara"/>
              </a:rPr>
              <a:t>Табакова Ирина Николаевна</a:t>
            </a:r>
            <a:br>
              <a:rPr sz="1800"/>
            </a:br>
            <a:r>
              <a:rPr b="1" lang="ru-RU" sz="1800" spc="-1" strike="noStrike">
                <a:solidFill>
                  <a:srgbClr val="052e65"/>
                </a:solidFill>
                <a:latin typeface="Candara"/>
              </a:rPr>
              <a:t>советник управления Губернатора края по организации взаимодействия с органами местного самоуправления</a:t>
            </a:r>
            <a:br>
              <a:rPr sz="2400"/>
            </a:br>
            <a:r>
              <a:rPr b="1" lang="ru-RU" sz="2000" spc="-1" strike="noStrike">
                <a:solidFill>
                  <a:srgbClr val="052e65"/>
                </a:solidFill>
                <a:latin typeface="Candara"/>
              </a:rPr>
              <a:t>8(391)249-37-07</a:t>
            </a:r>
            <a:br>
              <a:rPr sz="2400"/>
            </a:br>
            <a:r>
              <a:rPr b="1" lang="en-US" sz="1800" spc="-1" strike="noStrike" u="sng">
                <a:solidFill>
                  <a:srgbClr val="0080ff"/>
                </a:solidFill>
                <a:uFillTx/>
                <a:latin typeface="Candara"/>
                <a:hlinkClick r:id="rId1"/>
              </a:rPr>
              <a:t> tabakova</a:t>
            </a:r>
            <a:r>
              <a:rPr b="1" lang="ru-RU" sz="1800" spc="-1" strike="noStrike" u="sng">
                <a:solidFill>
                  <a:srgbClr val="0080ff"/>
                </a:solidFill>
                <a:uFillTx/>
                <a:latin typeface="Candara"/>
                <a:hlinkClick r:id="rId2"/>
              </a:rPr>
              <a:t>@</a:t>
            </a:r>
            <a:r>
              <a:rPr b="1" lang="en-US" sz="1800" spc="-1" strike="noStrike" u="sng">
                <a:solidFill>
                  <a:srgbClr val="0080ff"/>
                </a:solidFill>
                <a:uFillTx/>
                <a:latin typeface="Candara"/>
                <a:hlinkClick r:id="rId3"/>
              </a:rPr>
              <a:t>krskstate</a:t>
            </a:r>
            <a:r>
              <a:rPr b="1" lang="ru-RU" sz="1800" spc="-1" strike="noStrike" u="sng">
                <a:solidFill>
                  <a:srgbClr val="0080ff"/>
                </a:solidFill>
                <a:uFillTx/>
                <a:latin typeface="Candara"/>
                <a:hlinkClick r:id="rId4"/>
              </a:rPr>
              <a:t>.</a:t>
            </a:r>
            <a:r>
              <a:rPr b="1" lang="en-US" sz="1800" spc="-1" strike="noStrike" u="sng">
                <a:solidFill>
                  <a:srgbClr val="0080ff"/>
                </a:solidFill>
                <a:uFillTx/>
                <a:latin typeface="Candara"/>
                <a:hlinkClick r:id="rId5"/>
              </a:rPr>
              <a:t>ru</a:t>
            </a: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  </a:t>
            </a:r>
            <a:br>
              <a:rPr sz="1800"/>
            </a:br>
            <a:br>
              <a:rPr sz="2200"/>
            </a:br>
            <a:br>
              <a:rPr sz="2900"/>
            </a:b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3" name="Picture 8" descr="Лого_КК"/>
          <p:cNvPicPr/>
          <p:nvPr/>
        </p:nvPicPr>
        <p:blipFill>
          <a:blip r:embed="rId6"/>
          <a:stretch/>
        </p:blipFill>
        <p:spPr>
          <a:xfrm>
            <a:off x="611280" y="115920"/>
            <a:ext cx="352908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677600" y="404640"/>
            <a:ext cx="664524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0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ndara"/>
              </a:rPr>
              <a:t>Основанием для осуществления проверки является представленная в письменной форме информация от: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871560" y="2071800"/>
            <a:ext cx="74088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2e65"/>
                </a:solidFill>
                <a:latin typeface="Candara"/>
              </a:rPr>
              <a:t>правоохранительных органов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2e65"/>
                </a:solidFill>
                <a:latin typeface="Candara"/>
              </a:rPr>
              <a:t>налоговых органов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2e65"/>
                </a:solidFill>
                <a:latin typeface="Candara"/>
              </a:rPr>
              <a:t>судебных органов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2e65"/>
                </a:solidFill>
                <a:latin typeface="Candara"/>
              </a:rPr>
              <a:t>органов прокуратуры Российской Федерации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2e65"/>
                </a:solidFill>
                <a:latin typeface="Candara"/>
              </a:rPr>
              <a:t>иных государственных органов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2e65"/>
                </a:solidFill>
                <a:latin typeface="Candara"/>
              </a:rPr>
              <a:t>органов местного самоуправления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2e65"/>
                </a:solidFill>
                <a:latin typeface="Candara"/>
              </a:rPr>
              <a:t>должностных лиц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2e65"/>
                </a:solidFill>
                <a:latin typeface="Candara"/>
              </a:rPr>
              <a:t>организаций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2e65"/>
                </a:solidFill>
                <a:latin typeface="Candara"/>
              </a:rPr>
              <a:t>граждан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Скругленная прямоугольная выноска 4"/>
          <p:cNvSpPr/>
          <p:nvPr/>
        </p:nvSpPr>
        <p:spPr>
          <a:xfrm>
            <a:off x="7500960" y="1500120"/>
            <a:ext cx="1643040" cy="2786040"/>
          </a:xfrm>
          <a:prstGeom prst="wedgeRoundRectCallout">
            <a:avLst>
              <a:gd name="adj1" fmla="val -21615"/>
              <a:gd name="adj2" fmla="val 63643"/>
              <a:gd name="adj3" fmla="val 16667"/>
            </a:avLst>
          </a:prstGeom>
          <a:solidFill>
            <a:srgbClr val="ff9900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ndara"/>
              </a:rPr>
              <a:t>Ст.3.2 Закона края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ndara"/>
              </a:rPr>
              <a:t>№ </a:t>
            </a:r>
            <a:r>
              <a:rPr b="0" lang="ru-RU" sz="1400" spc="-1" strike="noStrike">
                <a:solidFill>
                  <a:srgbClr val="000000"/>
                </a:solidFill>
                <a:latin typeface="Candara"/>
              </a:rPr>
              <a:t>5-1565 «Об особенностях правового регулирования муниципальной службы в Красноярском крае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3" name="Picture 4" descr="U6-8whIoBfY"/>
          <p:cNvPicPr/>
          <p:nvPr/>
        </p:nvPicPr>
        <p:blipFill>
          <a:blip r:embed="rId1"/>
          <a:stretch/>
        </p:blipFill>
        <p:spPr>
          <a:xfrm>
            <a:off x="214200" y="214200"/>
            <a:ext cx="1600200" cy="1800360"/>
          </a:xfrm>
          <a:prstGeom prst="rect">
            <a:avLst/>
          </a:prstGeom>
          <a:ln w="0">
            <a:noFill/>
          </a:ln>
        </p:spPr>
      </p:pic>
      <p:sp>
        <p:nvSpPr>
          <p:cNvPr id="384" name="Скругленный прямоугольник 6"/>
          <p:cNvSpPr/>
          <p:nvPr/>
        </p:nvSpPr>
        <p:spPr>
          <a:xfrm>
            <a:off x="1000080" y="5357880"/>
            <a:ext cx="7572600" cy="1357200"/>
          </a:xfrm>
          <a:prstGeom prst="roundRect">
            <a:avLst>
              <a:gd name="adj" fmla="val 16667"/>
            </a:avLst>
          </a:prstGeom>
          <a:solidFill>
            <a:srgbClr val="31b6fd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31f43"/>
                </a:solidFill>
                <a:latin typeface="Candara"/>
              </a:rPr>
              <a:t>о представлении недостоверных или неполных сведений о доходах, об имуществе и обязательствах имущественного характера, а также о несоблюдении муниципальными служащими ограничений и запретов, требований о предотвращении или об урегулировании конфликта интересов, неисполнении ими обязанностей, установленных действующим законодательство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871560" y="4285800"/>
            <a:ext cx="7408800" cy="18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ndara"/>
              </a:rPr>
              <a:t>Принятие решения о проверке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grpSp>
        <p:nvGrpSpPr>
          <p:cNvPr id="387" name="Группа 4"/>
          <p:cNvGrpSpPr/>
          <p:nvPr/>
        </p:nvGrpSpPr>
        <p:grpSpPr>
          <a:xfrm>
            <a:off x="1000080" y="2071800"/>
            <a:ext cx="7500960" cy="742680"/>
            <a:chOff x="1000080" y="2071800"/>
            <a:chExt cx="7500960" cy="742680"/>
          </a:xfrm>
        </p:grpSpPr>
        <p:sp>
          <p:nvSpPr>
            <p:cNvPr id="388" name="Скругленный прямоугольник 5"/>
            <p:cNvSpPr/>
            <p:nvPr/>
          </p:nvSpPr>
          <p:spPr>
            <a:xfrm>
              <a:off x="1000080" y="2071800"/>
              <a:ext cx="7500960" cy="714240"/>
            </a:xfrm>
            <a:prstGeom prst="roundRect">
              <a:avLst>
                <a:gd name="adj" fmla="val 10000"/>
              </a:avLst>
            </a:prstGeom>
            <a:solidFill>
              <a:srgbClr val="fbe6b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2060"/>
                  </a:solidFill>
                  <a:latin typeface="Candara"/>
                </a:rPr>
                <a:t>Решение принимается представителем нанимателя </a:t>
              </a:r>
              <a:r>
                <a:rPr b="1" lang="ru-RU" sz="1800" spc="-1" strike="noStrike">
                  <a:solidFill>
                    <a:srgbClr val="ff0000"/>
                  </a:solidFill>
                  <a:latin typeface="Candara"/>
                </a:rPr>
                <a:t>в течение 7 календарных дней</a:t>
              </a:r>
              <a:r>
                <a:rPr b="1" lang="ru-RU" sz="1800" spc="-1" strike="noStrike">
                  <a:solidFill>
                    <a:srgbClr val="002060"/>
                  </a:solidFill>
                  <a:latin typeface="Candara"/>
                </a:rPr>
                <a:t> после поступления  информации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Скругленный прямоугольник 4"/>
            <p:cNvSpPr/>
            <p:nvPr/>
          </p:nvSpPr>
          <p:spPr>
            <a:xfrm>
              <a:off x="1022040" y="2093760"/>
              <a:ext cx="50594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just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90" name="Группа 8"/>
          <p:cNvGrpSpPr/>
          <p:nvPr/>
        </p:nvGrpSpPr>
        <p:grpSpPr>
          <a:xfrm>
            <a:off x="1000080" y="3065400"/>
            <a:ext cx="7500960" cy="649440"/>
            <a:chOff x="1000080" y="3065400"/>
            <a:chExt cx="7500960" cy="649440"/>
          </a:xfrm>
        </p:grpSpPr>
        <p:sp>
          <p:nvSpPr>
            <p:cNvPr id="391" name="Скругленный прямоугольник 9"/>
            <p:cNvSpPr/>
            <p:nvPr/>
          </p:nvSpPr>
          <p:spPr>
            <a:xfrm>
              <a:off x="1000080" y="3071520"/>
              <a:ext cx="7500960" cy="643320"/>
            </a:xfrm>
            <a:prstGeom prst="roundRect">
              <a:avLst>
                <a:gd name="adj" fmla="val 10000"/>
              </a:avLst>
            </a:prstGeom>
            <a:solidFill>
              <a:srgbClr val="31b6f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Скругленный прямоугольник 4"/>
            <p:cNvSpPr/>
            <p:nvPr/>
          </p:nvSpPr>
          <p:spPr>
            <a:xfrm>
              <a:off x="1000080" y="3065400"/>
              <a:ext cx="7500960" cy="630720"/>
            </a:xfrm>
            <a:prstGeom prst="rect">
              <a:avLst/>
            </a:prstGeom>
            <a:solidFill>
              <a:srgbClr val="fb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just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ru-RU" sz="1800" spc="-1" strike="noStrike">
                  <a:solidFill>
                    <a:srgbClr val="1b4171"/>
                  </a:solidFill>
                  <a:latin typeface="Candara"/>
                </a:rPr>
                <a:t>Решение принимается отдельно в отношении каждого проверяемого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93" name="Группа 11"/>
          <p:cNvGrpSpPr/>
          <p:nvPr/>
        </p:nvGrpSpPr>
        <p:grpSpPr>
          <a:xfrm>
            <a:off x="928800" y="3857760"/>
            <a:ext cx="7715160" cy="2428920"/>
            <a:chOff x="928800" y="3857760"/>
            <a:chExt cx="7715160" cy="2428920"/>
          </a:xfrm>
        </p:grpSpPr>
        <p:sp>
          <p:nvSpPr>
            <p:cNvPr id="394" name="Скругленный прямоугольник 12"/>
            <p:cNvSpPr/>
            <p:nvPr/>
          </p:nvSpPr>
          <p:spPr>
            <a:xfrm>
              <a:off x="928800" y="3857760"/>
              <a:ext cx="7715160" cy="2428920"/>
            </a:xfrm>
            <a:prstGeom prst="roundRect">
              <a:avLst>
                <a:gd name="adj" fmla="val 10000"/>
              </a:avLst>
            </a:prstGeom>
            <a:solidFill>
              <a:srgbClr val="c8fef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31f43"/>
                  </a:solidFill>
                  <a:latin typeface="Candara"/>
                </a:rPr>
                <a:t>В решении указывается: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31f43"/>
                  </a:solidFill>
                  <a:latin typeface="Candara"/>
                </a:rPr>
                <a:t>1) указание на обстоятельство, послужившее основанием для проверки;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31f43"/>
                  </a:solidFill>
                  <a:latin typeface="Candara"/>
                </a:rPr>
                <a:t>2) указание на должностных лиц и (или) структурное подразделение органа местного самоуправления, которым поручено провести проверку;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31f43"/>
                  </a:solidFill>
                  <a:latin typeface="Candara"/>
                </a:rPr>
                <a:t>3) сроки, в течение которых должна быть проведена проверка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31f43"/>
                  </a:solidFill>
                  <a:latin typeface="Candara"/>
                </a:rPr>
                <a:t>(</a:t>
              </a:r>
              <a:r>
                <a:rPr b="1" lang="ru-RU" sz="1800" spc="-1" strike="noStrike">
                  <a:solidFill>
                    <a:srgbClr val="ff0000"/>
                  </a:solidFill>
                  <a:latin typeface="Candara"/>
                </a:rPr>
                <a:t>по общему правилу срок проверки не более 60 дней, но может быть продлен до 90 дней</a:t>
              </a:r>
              <a:r>
                <a:rPr b="1" lang="ru-RU" sz="1800" spc="-1" strike="noStrike">
                  <a:solidFill>
                    <a:srgbClr val="031f43"/>
                  </a:solidFill>
                  <a:latin typeface="Candara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Скругленный прямоугольник 4"/>
            <p:cNvSpPr/>
            <p:nvPr/>
          </p:nvSpPr>
          <p:spPr>
            <a:xfrm>
              <a:off x="1689120" y="3879720"/>
              <a:ext cx="577548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just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ndara"/>
              </a:rPr>
              <a:t>Порядок проведения проверки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7" name="Стрелка вниз 4"/>
          <p:cNvSpPr/>
          <p:nvPr/>
        </p:nvSpPr>
        <p:spPr>
          <a:xfrm>
            <a:off x="928800" y="1643040"/>
            <a:ext cx="7572240" cy="571680"/>
          </a:xfrm>
          <a:prstGeom prst="downArrow">
            <a:avLst>
              <a:gd name="adj1" fmla="val 100000"/>
              <a:gd name="adj2" fmla="val 49671"/>
            </a:avLst>
          </a:prstGeom>
          <a:solidFill>
            <a:srgbClr val="ade2fe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31f43"/>
                </a:solidFill>
                <a:latin typeface="Candara"/>
              </a:rPr>
              <a:t>Принять реше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928800" y="2357280"/>
            <a:ext cx="7572600" cy="292680"/>
          </a:xfrm>
          <a:prstGeom prst="rect">
            <a:avLst/>
          </a:prstGeom>
          <a:solidFill>
            <a:srgbClr val="ade2fe"/>
          </a:solidFill>
          <a:ln w="25560">
            <a:solidFill>
              <a:srgbClr val="2185ba"/>
            </a:solidFill>
            <a:miter/>
          </a:ln>
        </p:spPr>
        <p:txBody>
          <a:bodyPr anchor="ctr">
            <a:normAutofit fontScale="73000"/>
          </a:bodyPr>
          <a:p>
            <a:pPr marL="199080" indent="-199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31f43"/>
                </a:solidFill>
                <a:latin typeface="Candara"/>
              </a:rPr>
              <a:t>Уведомить проверяемого </a:t>
            </a:r>
            <a:r>
              <a:rPr b="0" lang="ru-RU" sz="1800" spc="-1" strike="noStrike">
                <a:solidFill>
                  <a:srgbClr val="ff0000"/>
                </a:solidFill>
                <a:latin typeface="Candara"/>
              </a:rPr>
              <a:t>(</a:t>
            </a:r>
            <a:r>
              <a:rPr b="1" lang="ru-RU" sz="1800" spc="-1" strike="noStrike">
                <a:solidFill>
                  <a:srgbClr val="ff0000"/>
                </a:solidFill>
                <a:latin typeface="Candara"/>
              </a:rPr>
              <a:t>в течение 2 рабочих дней</a:t>
            </a:r>
            <a:r>
              <a:rPr b="0" lang="ru-RU" sz="1800" spc="-1" strike="noStrike">
                <a:solidFill>
                  <a:srgbClr val="ff0000"/>
                </a:solidFill>
                <a:latin typeface="Candara"/>
              </a:rPr>
              <a:t>)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9" name="Стрелка вниз 6"/>
          <p:cNvSpPr/>
          <p:nvPr/>
        </p:nvSpPr>
        <p:spPr>
          <a:xfrm>
            <a:off x="928800" y="3000240"/>
            <a:ext cx="7572240" cy="571680"/>
          </a:xfrm>
          <a:prstGeom prst="downArrow">
            <a:avLst>
              <a:gd name="adj1" fmla="val 100000"/>
              <a:gd name="adj2" fmla="val 49671"/>
            </a:avLst>
          </a:prstGeom>
          <a:solidFill>
            <a:srgbClr val="ade2fe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31f43"/>
                </a:solidFill>
                <a:latin typeface="Candara"/>
              </a:rPr>
              <a:t>Провести беседу с проверяемы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Стрелка вниз 7"/>
          <p:cNvSpPr/>
          <p:nvPr/>
        </p:nvSpPr>
        <p:spPr>
          <a:xfrm>
            <a:off x="928800" y="3643200"/>
            <a:ext cx="7572240" cy="500040"/>
          </a:xfrm>
          <a:prstGeom prst="downArrow">
            <a:avLst>
              <a:gd name="adj1" fmla="val 100000"/>
              <a:gd name="adj2" fmla="val 42495"/>
            </a:avLst>
          </a:prstGeom>
          <a:solidFill>
            <a:srgbClr val="ade2fe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31f43"/>
                </a:solidFill>
                <a:latin typeface="Candara"/>
              </a:rPr>
              <a:t>Проверяемый вправе представить документы, поясне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Стрелка вниз 8"/>
          <p:cNvSpPr/>
          <p:nvPr/>
        </p:nvSpPr>
        <p:spPr>
          <a:xfrm>
            <a:off x="928800" y="4286160"/>
            <a:ext cx="2500200" cy="642960"/>
          </a:xfrm>
          <a:prstGeom prst="downArrow">
            <a:avLst>
              <a:gd name="adj1" fmla="val 100000"/>
              <a:gd name="adj2" fmla="val 45329"/>
            </a:avLst>
          </a:prstGeom>
          <a:solidFill>
            <a:srgbClr val="ade2fe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31f43"/>
                </a:solidFill>
                <a:latin typeface="Candara"/>
              </a:rPr>
              <a:t>Направить запрос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Стрелка вниз 9"/>
          <p:cNvSpPr/>
          <p:nvPr/>
        </p:nvSpPr>
        <p:spPr>
          <a:xfrm>
            <a:off x="3571920" y="4286160"/>
            <a:ext cx="2428920" cy="642960"/>
          </a:xfrm>
          <a:prstGeom prst="downArrow">
            <a:avLst>
              <a:gd name="adj1" fmla="val 100000"/>
              <a:gd name="adj2" fmla="val 45329"/>
            </a:avLst>
          </a:prstGeom>
          <a:solidFill>
            <a:srgbClr val="ade2fe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31f43"/>
                </a:solidFill>
                <a:latin typeface="Candara"/>
              </a:rPr>
              <a:t>Навести справк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Стрелка вниз 10"/>
          <p:cNvSpPr/>
          <p:nvPr/>
        </p:nvSpPr>
        <p:spPr>
          <a:xfrm>
            <a:off x="6143760" y="4286160"/>
            <a:ext cx="2571480" cy="714600"/>
          </a:xfrm>
          <a:prstGeom prst="downArrow">
            <a:avLst>
              <a:gd name="adj1" fmla="val 100000"/>
              <a:gd name="adj2" fmla="val 45329"/>
            </a:avLst>
          </a:prstGeom>
          <a:solidFill>
            <a:srgbClr val="ade2fe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31f43"/>
                </a:solidFill>
                <a:latin typeface="Candara"/>
              </a:rPr>
              <a:t>Обратиться к Губернатору кра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Стрелка вниз 11"/>
          <p:cNvSpPr/>
          <p:nvPr/>
        </p:nvSpPr>
        <p:spPr>
          <a:xfrm>
            <a:off x="928800" y="5143680"/>
            <a:ext cx="7572240" cy="500040"/>
          </a:xfrm>
          <a:prstGeom prst="downArrow">
            <a:avLst>
              <a:gd name="adj1" fmla="val 100000"/>
              <a:gd name="adj2" fmla="val 42495"/>
            </a:avLst>
          </a:prstGeom>
          <a:solidFill>
            <a:srgbClr val="ade2fe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31f43"/>
                </a:solidFill>
                <a:latin typeface="Candara"/>
              </a:rPr>
              <a:t>Представить докла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Стрелка вниз 12"/>
          <p:cNvSpPr/>
          <p:nvPr/>
        </p:nvSpPr>
        <p:spPr>
          <a:xfrm>
            <a:off x="928800" y="5715000"/>
            <a:ext cx="7572240" cy="500040"/>
          </a:xfrm>
          <a:prstGeom prst="downArrow">
            <a:avLst>
              <a:gd name="adj1" fmla="val 100000"/>
              <a:gd name="adj2" fmla="val 6352"/>
            </a:avLst>
          </a:prstGeom>
          <a:solidFill>
            <a:srgbClr val="ade2fe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31f43"/>
                </a:solidFill>
                <a:latin typeface="Candara"/>
              </a:rPr>
              <a:t>О результатах уведомить проверяемого  и  автора информац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31f43"/>
                </a:solidFill>
                <a:latin typeface="Candara"/>
              </a:rPr>
              <a:t> </a:t>
            </a:r>
            <a:r>
              <a:rPr b="1" lang="ru-RU" sz="1800" spc="-1" strike="noStrike">
                <a:solidFill>
                  <a:srgbClr val="031f43"/>
                </a:solidFill>
                <a:latin typeface="Candara"/>
              </a:rPr>
              <a:t>(</a:t>
            </a:r>
            <a:r>
              <a:rPr b="1" lang="ru-RU" sz="1800" spc="-1" strike="noStrike">
                <a:solidFill>
                  <a:srgbClr val="ff0000"/>
                </a:solidFill>
                <a:latin typeface="Candara"/>
              </a:rPr>
              <a:t>в течение 3 рабочих дней </a:t>
            </a:r>
            <a:r>
              <a:rPr b="1" lang="ru-RU" sz="1800" spc="-1" strike="noStrike">
                <a:solidFill>
                  <a:srgbClr val="031f43"/>
                </a:solidFill>
                <a:latin typeface="Candara"/>
              </a:rPr>
              <a:t>после дня окончания проверк</a:t>
            </a:r>
            <a:r>
              <a:rPr b="0" lang="ru-RU" sz="1800" spc="-1" strike="noStrike">
                <a:solidFill>
                  <a:srgbClr val="031f43"/>
                </a:solidFill>
                <a:latin typeface="Candara"/>
              </a:rPr>
              <a:t>и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856880" y="499680"/>
            <a:ext cx="5883480" cy="13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ndara"/>
              </a:rPr>
              <a:t>Основания проведения заседания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Candara"/>
              </a:rPr>
              <a:t>комиссии по соблюдению требований к служебному поведению муниципальных служащих и урегулированию конфликта интересов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28760" y="2014560"/>
            <a:ext cx="828648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just"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31f43"/>
                </a:solidFill>
                <a:latin typeface="Candara"/>
              </a:rPr>
              <a:t>1) представление  руководителем органа материалов проверки, свидетельствующих: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617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31f43"/>
                </a:solidFill>
                <a:latin typeface="Candara"/>
              </a:rPr>
              <a:t>        </a:t>
            </a:r>
            <a:r>
              <a:rPr b="1" lang="ru-RU" sz="1200" spc="-1" strike="noStrike">
                <a:solidFill>
                  <a:srgbClr val="031f43"/>
                </a:solidFill>
                <a:latin typeface="Candara"/>
              </a:rPr>
              <a:t>о представлении служащим недостоверных или неполных сведений о доходах, об имуществе и обязательствах имущественного характера;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617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31f43"/>
                </a:solidFill>
                <a:latin typeface="Candara"/>
              </a:rPr>
              <a:t>       </a:t>
            </a:r>
            <a:r>
              <a:rPr b="1" lang="ru-RU" sz="1200" spc="-1" strike="noStrike">
                <a:solidFill>
                  <a:srgbClr val="031f43"/>
                </a:solidFill>
                <a:latin typeface="Candara"/>
              </a:rPr>
              <a:t>о несоблюдении служащим требований к служебному поведению и (или) требований об урегулировании конфликта интересов;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 algn="just"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31f43"/>
                </a:solidFill>
                <a:latin typeface="Candara"/>
              </a:rPr>
              <a:t>2) обращение бывшего служащего о даче согласия на замещение должности в коммерческой или некоммерческой организации либо на выполнение работы (оказание услуг), если отдельные функции по управлению этой организацией входили в его должностные (служебные) обязанности, до истечения двух лет со дня увольнения со службы;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 algn="just"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31f43"/>
                </a:solidFill>
                <a:latin typeface="Candara"/>
              </a:rPr>
              <a:t>3) заявление служащего о невозможности по объективным причинам представить сведения о доходах, об имуществе и обязательствах имущественного характера своих супруги (супруга) и несовершеннолетних детей;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 algn="just"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31f43"/>
                </a:solidFill>
                <a:latin typeface="Candara"/>
              </a:rPr>
              <a:t>4) представление, касающееся обеспечения соблюдения служащим требований к служебному поведению и (или) требований об урегулировании конфликта интересов либо осуществления в органе местного самоуправления мер по предупреждению коррупции;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 algn="just"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31f43"/>
                </a:solidFill>
                <a:latin typeface="Candara"/>
              </a:rPr>
              <a:t>5) письменная информация служащего о возникновении у него личной заинтересованности, которая приводит или может привести к конфликту интересов;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 algn="just"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31f43"/>
                </a:solidFill>
                <a:latin typeface="Candara"/>
              </a:rPr>
              <a:t>6) уведомление коммерческой или некоммерческой организации о найме бывшего служащего, если отдельные функции по муниципальному управлению этой организацией входили в его должностные (служебные) обязанности, до истечения двух лет со дня увольнения со службы, при условии, если указанному гражданину комиссией ранее было отказано во вступлении в трудовые и гражданско-правовые отношения с указанной организацией или при условии, если вопрос о даче согласия такому гражданину на замещение им должности в организации либо на выполнение им работы на условиях гражданско-правового договора в организации комиссией не рассматривался;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 algn="just"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31f43"/>
                </a:solidFill>
                <a:latin typeface="Candara"/>
              </a:rPr>
              <a:t>7) письменная информация о нарушении служащим Кодекса этики и поведения лиц, замещающих государственные должности края, государственных гражданских служащих края, выборных должностных лиц местного самоуправления, муниципальных служащих.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6172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08" name="Picture 4" descr="U6-8whIoBfY"/>
          <p:cNvPicPr/>
          <p:nvPr/>
        </p:nvPicPr>
        <p:blipFill>
          <a:blip r:embed="rId1"/>
          <a:stretch/>
        </p:blipFill>
        <p:spPr>
          <a:xfrm>
            <a:off x="214200" y="214200"/>
            <a:ext cx="1600200" cy="1800360"/>
          </a:xfrm>
          <a:prstGeom prst="rect">
            <a:avLst/>
          </a:prstGeom>
          <a:ln w="0">
            <a:noFill/>
          </a:ln>
        </p:spPr>
      </p:pic>
      <p:sp>
        <p:nvSpPr>
          <p:cNvPr id="409" name="Скругленная прямоугольная выноска 6"/>
          <p:cNvSpPr/>
          <p:nvPr/>
        </p:nvSpPr>
        <p:spPr>
          <a:xfrm>
            <a:off x="7524720" y="0"/>
            <a:ext cx="1643040" cy="2133720"/>
          </a:xfrm>
          <a:prstGeom prst="wedgeRoundRectCallout">
            <a:avLst>
              <a:gd name="adj1" fmla="val -21615"/>
              <a:gd name="adj2" fmla="val 63643"/>
              <a:gd name="adj3" fmla="val 16667"/>
            </a:avLst>
          </a:prstGeom>
          <a:solidFill>
            <a:srgbClr val="ff9900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ndara"/>
              </a:rPr>
              <a:t>Указ Губернатора Красноярского края от 26.12.2014 № 295-уг рекомендуется для подготовки изменений в МП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ndara"/>
              </a:rPr>
              <a:t>Понятие конфликта интересов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871560" y="2285640"/>
            <a:ext cx="74088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ситуация, при которой </a:t>
            </a:r>
            <a:r>
              <a:rPr b="0" lang="ru-RU" sz="2400" spc="-1" strike="noStrike">
                <a:solidFill>
                  <a:srgbClr val="c00000"/>
                </a:solidFill>
                <a:latin typeface="Candara"/>
              </a:rPr>
              <a:t>личная заинтересованность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(прямая или косвенная) муниципального служащего влияет или может повлиять на надлежащее исполнение им должностных (служебных) обязанностей и при которой возникает или может возникнуть противоречие между личной заинтересованностью муниципального служащего и правами и законными интересами граждан, организаций, общества или государства, способное привести к причинению вреда правам и законным интересам граждан, организаций, общества или государств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9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12" name="Picture 5" descr="U6-8whIoBfY"/>
          <p:cNvPicPr/>
          <p:nvPr/>
        </p:nvPicPr>
        <p:blipFill>
          <a:blip r:embed="rId1"/>
          <a:stretch/>
        </p:blipFill>
        <p:spPr>
          <a:xfrm>
            <a:off x="214200" y="214200"/>
            <a:ext cx="160020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61760" y="499680"/>
            <a:ext cx="792468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ndara"/>
              </a:rPr>
              <a:t>Личная заинтересованность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71560" y="2428920"/>
            <a:ext cx="74088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Candara"/>
              </a:rPr>
              <a:t>возможность получения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муниципальным служащим при исполнении должностных (служебных) обязанностей </a:t>
            </a:r>
            <a:r>
              <a:rPr b="0" lang="ru-RU" sz="2400" spc="-1" strike="noStrike">
                <a:solidFill>
                  <a:srgbClr val="c00000"/>
                </a:solidFill>
                <a:latin typeface="Candara"/>
              </a:rPr>
              <a:t>доходов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в виде денег, ценностей, иного имущества </a:t>
            </a:r>
            <a:r>
              <a:rPr b="0" lang="ru-RU" sz="2400" spc="-1" strike="noStrike">
                <a:solidFill>
                  <a:srgbClr val="c00000"/>
                </a:solidFill>
                <a:latin typeface="Candara"/>
              </a:rPr>
              <a:t>или услуг имущественного характера, иных имущественных прав для себя или для третьих лиц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3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15" name="Picture 4" descr="U6-8whIoBfY"/>
          <p:cNvPicPr/>
          <p:nvPr/>
        </p:nvPicPr>
        <p:blipFill>
          <a:blip r:embed="rId1"/>
          <a:stretch/>
        </p:blipFill>
        <p:spPr>
          <a:xfrm>
            <a:off x="214200" y="214200"/>
            <a:ext cx="160020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785600" y="620280"/>
            <a:ext cx="67467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ndara"/>
              </a:rPr>
              <a:t>Представление сведений о расходах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676440" y="2205000"/>
            <a:ext cx="38224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0" y="2143080"/>
            <a:ext cx="358128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9" name="Скругленный прямоугольник 2"/>
          <p:cNvSpPr/>
          <p:nvPr/>
        </p:nvSpPr>
        <p:spPr>
          <a:xfrm>
            <a:off x="900000" y="2214720"/>
            <a:ext cx="3384720" cy="3951000"/>
          </a:xfrm>
          <a:custGeom>
            <a:avLst/>
            <a:gdLst>
              <a:gd name="textAreaLeft" fmla="*/ 165240 w 3384720"/>
              <a:gd name="textAreaRight" fmla="*/ 3219480 w 3384720"/>
              <a:gd name="textAreaTop" fmla="*/ 165240 h 3951000"/>
              <a:gd name="textAreaBottom" fmla="*/ 3785760 h 3951000"/>
            </a:gdLst>
            <a:ahLst/>
            <a:rect l="textAreaLeft" t="textAreaTop" r="textAreaRight" b="textAreaBottom"/>
            <a:pathLst>
              <a:path w="21600" h="25213">
                <a:moveTo>
                  <a:pt x="3600" y="0"/>
                </a:moveTo>
                <a:arcTo wR="3600" hR="3600" stAng="16200000" swAng="-5400000"/>
                <a:lnTo>
                  <a:pt x="0" y="21613"/>
                </a:lnTo>
                <a:arcTo wR="3600" hR="3600" stAng="10800000" swAng="-5400000"/>
                <a:lnTo>
                  <a:pt x="18000" y="252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1b6fd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52e65"/>
                </a:solidFill>
                <a:uFillTx/>
                <a:latin typeface="Candara"/>
              </a:rPr>
              <a:t>Основание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ndara"/>
              </a:rPr>
              <a:t>представляются </a:t>
            </a:r>
            <a:r>
              <a:rPr b="1" lang="ru-RU" sz="1800" spc="-1" strike="noStrike">
                <a:solidFill>
                  <a:srgbClr val="c00000"/>
                </a:solidFill>
                <a:latin typeface="Candara"/>
              </a:rPr>
              <a:t>по каждой сделке</a:t>
            </a:r>
            <a:r>
              <a:rPr b="1" lang="ru-RU" sz="1800" spc="-1" strike="noStrike">
                <a:solidFill>
                  <a:srgbClr val="ffffff"/>
                </a:solidFill>
                <a:latin typeface="Candara"/>
              </a:rPr>
              <a:t> по приобретению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ndara"/>
              </a:rPr>
              <a:t>земельного участка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ndara"/>
              </a:rPr>
              <a:t>другого объекта недвижимости, транспортного средства, ценных бумаг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ndara"/>
              </a:rPr>
              <a:t>акций (долей участия, паев в уставных (складочных) капиталах организаций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Скругленный прямоугольник 5"/>
          <p:cNvSpPr/>
          <p:nvPr/>
        </p:nvSpPr>
        <p:spPr>
          <a:xfrm>
            <a:off x="4643280" y="2214720"/>
            <a:ext cx="3357720" cy="3951000"/>
          </a:xfrm>
          <a:custGeom>
            <a:avLst/>
            <a:gdLst>
              <a:gd name="textAreaLeft" fmla="*/ 163800 w 3357720"/>
              <a:gd name="textAreaRight" fmla="*/ 3193920 w 3357720"/>
              <a:gd name="textAreaTop" fmla="*/ 163800 h 3951000"/>
              <a:gd name="textAreaBottom" fmla="*/ 3787200 h 3951000"/>
            </a:gdLst>
            <a:ahLst/>
            <a:rect l="textAreaLeft" t="textAreaTop" r="textAreaRight" b="textAreaBottom"/>
            <a:pathLst>
              <a:path w="21600" h="25416">
                <a:moveTo>
                  <a:pt x="3600" y="0"/>
                </a:moveTo>
                <a:arcTo wR="3600" hR="3600" stAng="16200000" swAng="-5400000"/>
                <a:lnTo>
                  <a:pt x="0" y="21816"/>
                </a:lnTo>
                <a:arcTo wR="3600" hR="3600" stAng="10800000" swAng="-5400000"/>
                <a:lnTo>
                  <a:pt x="18000" y="254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1b6fd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52e65"/>
                </a:solidFill>
                <a:uFillTx/>
                <a:latin typeface="Candara"/>
              </a:rPr>
              <a:t>Условие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ndara"/>
              </a:rPr>
              <a:t>если </a:t>
            </a:r>
            <a:r>
              <a:rPr b="1" lang="ru-RU" sz="1800" spc="-1" strike="noStrike">
                <a:solidFill>
                  <a:srgbClr val="c00000"/>
                </a:solidFill>
                <a:latin typeface="Candara"/>
              </a:rPr>
              <a:t>общая сумма таких сделок </a:t>
            </a:r>
            <a:r>
              <a:rPr b="1" lang="ru-RU" sz="1800" spc="-1" strike="noStrike">
                <a:solidFill>
                  <a:srgbClr val="ffffff"/>
                </a:solidFill>
                <a:latin typeface="Candara"/>
              </a:rPr>
              <a:t>превышает общий доход данного лица и его супруги (супруга) </a:t>
            </a:r>
            <a:r>
              <a:rPr b="1" lang="ru-RU" sz="1800" spc="-1" strike="noStrike">
                <a:solidFill>
                  <a:srgbClr val="c00000"/>
                </a:solidFill>
                <a:latin typeface="Candara"/>
              </a:rPr>
              <a:t>за три последних года, предшествующих отчетном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1" name="Picture 4" descr="U6-8whIoBfY"/>
          <p:cNvPicPr/>
          <p:nvPr/>
        </p:nvPicPr>
        <p:blipFill>
          <a:blip r:embed="rId1"/>
          <a:stretch/>
        </p:blipFill>
        <p:spPr>
          <a:xfrm>
            <a:off x="214200" y="214200"/>
            <a:ext cx="160020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539280" y="2204640"/>
            <a:ext cx="800100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Candara"/>
                <a:ea typeface="Times New Roman"/>
              </a:rPr>
              <a:t>Указом Губернатора Красноярского края 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Candara"/>
                <a:ea typeface="Times New Roman"/>
              </a:rPr>
              <a:t>от 13.08.2013 № 151-уг  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Candara"/>
                <a:ea typeface="Times New Roman"/>
              </a:rPr>
              <a:t>«О подразделениях, ответственных за работу по профилактике коррупционных и иных правонарушений»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Candara"/>
                <a:ea typeface="Times New Roman"/>
              </a:rPr>
              <a:t>управление Губернатора Красноярского края по организации взаимодействия с органами местного самоуправления определено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Candara"/>
                <a:ea typeface="Times New Roman"/>
              </a:rPr>
              <a:t>в качестве подразделения, ответственного за профилактику коррупционных и иных правонарушений </a:t>
            </a:r>
            <a:r>
              <a:rPr b="1" lang="ru-RU" sz="2000" spc="-1" strike="noStrike" u="sng">
                <a:solidFill>
                  <a:srgbClr val="073e87"/>
                </a:solidFill>
                <a:uFillTx/>
                <a:latin typeface="Candara"/>
                <a:ea typeface="Times New Roman"/>
              </a:rPr>
              <a:t>в части контроля за расходами</a:t>
            </a:r>
            <a:r>
              <a:rPr b="1" lang="ru-RU" sz="2000" spc="-1" strike="noStrike">
                <a:solidFill>
                  <a:srgbClr val="073e87"/>
                </a:solidFill>
                <a:latin typeface="Candara"/>
                <a:ea typeface="Times New Roman"/>
              </a:rPr>
              <a:t> </a:t>
            </a:r>
            <a:r>
              <a:rPr b="1" lang="ru-RU" sz="2000" spc="-1" strike="noStrike" u="sng">
                <a:solidFill>
                  <a:srgbClr val="073e87"/>
                </a:solidFill>
                <a:uFillTx/>
                <a:latin typeface="Candara"/>
                <a:ea typeface="Times New Roman"/>
              </a:rPr>
              <a:t>лиц, замещающих муниципальные должности на постоянной основе, муниципальных служащих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74200" y="475920"/>
            <a:ext cx="8001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andara"/>
              </a:rPr>
              <a:t>Осуществление контроля  за расходами лиц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andara"/>
              </a:rPr>
              <a:t>замещающих муниципальные должности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andara"/>
              </a:rPr>
              <a:t>и должности муниципальной службы</a:t>
            </a: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566280" y="2276640"/>
            <a:ext cx="80010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just">
              <a:lnSpc>
                <a:spcPct val="80000"/>
              </a:lnSpc>
              <a:spcAft>
                <a:spcPts val="1199"/>
              </a:spcAft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правоохранительные органы, иные государственные органы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 algn="just">
              <a:lnSpc>
                <a:spcPct val="80000"/>
              </a:lnSpc>
              <a:spcAft>
                <a:spcPts val="1199"/>
              </a:spcAft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органы местного самоуправления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 algn="just">
              <a:lnSpc>
                <a:spcPct val="80000"/>
              </a:lnSpc>
              <a:spcAft>
                <a:spcPts val="1199"/>
              </a:spcAft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73e87"/>
                </a:solidFill>
                <a:uFillTx/>
                <a:latin typeface="Candara"/>
              </a:rPr>
              <a:t>должностные лица </a:t>
            </a: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(работники (сотрудники) подразделений по профилактике коррупционных и иных правонарушений и должностные лица государственных органов, </a:t>
            </a:r>
            <a:r>
              <a:rPr b="1" lang="ru-RU" sz="2000" spc="-1" strike="noStrike" u="sng">
                <a:solidFill>
                  <a:srgbClr val="073e87"/>
                </a:solidFill>
                <a:uFillTx/>
                <a:latin typeface="Candara"/>
              </a:rPr>
              <a:t>органов местного самоуправления</a:t>
            </a: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, другие в соответствии со ст.4 Федерального закона № 230-ФЗ)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 algn="just">
              <a:lnSpc>
                <a:spcPct val="80000"/>
              </a:lnSpc>
              <a:spcAft>
                <a:spcPts val="1199"/>
              </a:spcAft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постоянно действующие руководящие органы политических партий и объединений, не являющихся политическими партиями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 algn="just">
              <a:lnSpc>
                <a:spcPct val="80000"/>
              </a:lnSpc>
              <a:spcAft>
                <a:spcPts val="1199"/>
              </a:spcAft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Общественная палата Российской Федерации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 algn="just">
              <a:lnSpc>
                <a:spcPct val="80000"/>
              </a:lnSpc>
              <a:spcAft>
                <a:spcPts val="1199"/>
              </a:spcAft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общероссийские средства массовой информации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 algn="just">
              <a:lnSpc>
                <a:spcPct val="80000"/>
              </a:lnSpc>
              <a:spcAft>
                <a:spcPts val="1199"/>
              </a:spcAft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ndara"/>
              </a:rPr>
              <a:t>Субъекты, представляющие достаточную информацию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andara"/>
              </a:rPr>
              <a:t>которая может служить основанием для принятия решения об осуществлении контроля за расходами</a:t>
            </a: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684360" y="1700280"/>
            <a:ext cx="799128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Э Т А П Ы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61600" y="259920"/>
            <a:ext cx="8001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ndara"/>
              </a:rPr>
              <a:t>Осуществление контроля за расходами в 2014 году</a:t>
            </a: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8" name="Скругленная прямоугольная выноска 10"/>
          <p:cNvSpPr/>
          <p:nvPr/>
        </p:nvSpPr>
        <p:spPr>
          <a:xfrm>
            <a:off x="7020000" y="2276640"/>
            <a:ext cx="2016000" cy="252072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c000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6296"/>
                </a:solidFill>
                <a:latin typeface="Candara"/>
              </a:rPr>
              <a:t>По результатам осуществления контроля </a:t>
            </a:r>
            <a:r>
              <a:rPr b="1" lang="ru-RU" sz="1200" spc="-1" strike="noStrike" u="sng">
                <a:solidFill>
                  <a:srgbClr val="016296"/>
                </a:solidFill>
                <a:uFillTx/>
                <a:latin typeface="Candara"/>
              </a:rPr>
              <a:t>может быть  </a:t>
            </a:r>
            <a:r>
              <a:rPr b="1" lang="ru-RU" sz="1200" spc="-1" strike="noStrike">
                <a:solidFill>
                  <a:srgbClr val="016296"/>
                </a:solidFill>
                <a:latin typeface="Candara"/>
              </a:rPr>
              <a:t>предложено комиссии по соблюдению требований к служебному поведению  и урегулированию конфликта интересов рассмотреть полученные результат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9" name="Схема 2" descr=""/>
          <p:cNvPicPr/>
          <p:nvPr/>
        </p:nvPicPr>
        <p:blipFill>
          <a:blip r:embed="rId1"/>
          <a:stretch/>
        </p:blipFill>
        <p:spPr>
          <a:xfrm>
            <a:off x="219240" y="2230560"/>
            <a:ext cx="7729200" cy="434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566280" y="1752120"/>
            <a:ext cx="800100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ПРЕДСТАВЛЯЮТСЯ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ndara"/>
              </a:rPr>
              <a:t>не позднее 30 апреля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ndara"/>
              </a:rPr>
              <a:t>Представление сведений о доходах, расходах,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Candara"/>
              </a:rPr>
              <a:t>об имуществе и обязательствах имущественного характера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6" name="Скругленный прямоугольник 3"/>
          <p:cNvSpPr/>
          <p:nvPr/>
        </p:nvSpPr>
        <p:spPr>
          <a:xfrm>
            <a:off x="1028880" y="2421000"/>
            <a:ext cx="3276360" cy="1676160"/>
          </a:xfrm>
          <a:prstGeom prst="roundRect">
            <a:avLst>
              <a:gd name="adj" fmla="val 16667"/>
            </a:avLst>
          </a:prstGeom>
          <a:solidFill>
            <a:srgbClr val="31b6fd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Candara"/>
              </a:rPr>
              <a:t>лицами, замещающими муниципальные должности на постоянной основ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Скругленный прямоугольник 4"/>
          <p:cNvSpPr/>
          <p:nvPr/>
        </p:nvSpPr>
        <p:spPr>
          <a:xfrm>
            <a:off x="4884840" y="2421000"/>
            <a:ext cx="3124080" cy="1676160"/>
          </a:xfrm>
          <a:prstGeom prst="roundRect">
            <a:avLst>
              <a:gd name="adj" fmla="val 16667"/>
            </a:avLst>
          </a:prstGeom>
          <a:solidFill>
            <a:srgbClr val="31b6fd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Candara"/>
              </a:rPr>
              <a:t>муниципальными служащими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Candara"/>
              </a:rPr>
              <a:t>высшей, старшей, главной и ведущей групп должностей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Скругленный прямоугольник 5"/>
          <p:cNvSpPr/>
          <p:nvPr/>
        </p:nvSpPr>
        <p:spPr>
          <a:xfrm>
            <a:off x="900000" y="4707000"/>
            <a:ext cx="7559640" cy="882720"/>
          </a:xfrm>
          <a:prstGeom prst="roundRect">
            <a:avLst>
              <a:gd name="adj" fmla="val 16667"/>
            </a:avLst>
          </a:prstGeom>
          <a:solidFill>
            <a:srgbClr val="31b6fd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ndar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Candara"/>
              </a:rPr>
              <a:t>в отношении своих доходов и расходов, доходов и расходов супруги (супруга) и несовершеннолетних дете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Скругленная прямоугольная выноска 10"/>
          <p:cNvSpPr/>
          <p:nvPr/>
        </p:nvSpPr>
        <p:spPr>
          <a:xfrm>
            <a:off x="6948360" y="1347840"/>
            <a:ext cx="2195640" cy="119052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c000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ndara"/>
              </a:rPr>
              <a:t>Закон Красноярского края  от 27.12.2005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ndara"/>
              </a:rPr>
              <a:t>№ </a:t>
            </a:r>
            <a:r>
              <a:rPr b="0" lang="ru-RU" sz="1300" spc="-1" strike="noStrike">
                <a:solidFill>
                  <a:srgbClr val="000000"/>
                </a:solidFill>
                <a:latin typeface="Candara"/>
              </a:rPr>
              <a:t>17-4354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ndara"/>
              </a:rPr>
              <a:t>«О реестре должностей муниципальной службы»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Стрелка вниз 8"/>
          <p:cNvSpPr/>
          <p:nvPr/>
        </p:nvSpPr>
        <p:spPr>
          <a:xfrm>
            <a:off x="2195640" y="4110120"/>
            <a:ext cx="720720" cy="5508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1b6fd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Стрелка вниз 11"/>
          <p:cNvSpPr/>
          <p:nvPr/>
        </p:nvSpPr>
        <p:spPr>
          <a:xfrm>
            <a:off x="6084720" y="4110120"/>
            <a:ext cx="648000" cy="5508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1b6fd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871560" y="2674800"/>
            <a:ext cx="7408800" cy="37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74200" y="47628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ndara"/>
              </a:rPr>
              <a:t>Результаты, полученные в ходе осуществления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Candara"/>
              </a:rPr>
              <a:t> контроля за расходами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32" name="Схема 2" descr=""/>
          <p:cNvPicPr/>
          <p:nvPr/>
        </p:nvPicPr>
        <p:blipFill>
          <a:blip r:embed="rId1"/>
          <a:stretch/>
        </p:blipFill>
        <p:spPr>
          <a:xfrm>
            <a:off x="1468440" y="1773360"/>
            <a:ext cx="6102360" cy="48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Объект 7" descr=""/>
          <p:cNvPicPr/>
          <p:nvPr/>
        </p:nvPicPr>
        <p:blipFill>
          <a:blip r:embed="rId1"/>
          <a:stretch/>
        </p:blipFill>
        <p:spPr>
          <a:xfrm>
            <a:off x="774720" y="2000160"/>
            <a:ext cx="7881840" cy="457200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643040" y="338040"/>
            <a:ext cx="704376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ndara"/>
              </a:rPr>
              <a:t>Ответственность лиц, нарушивших обязанности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Candara"/>
              </a:rPr>
              <a:t>по представлению сведений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35" name="Picture 4" descr="U6-8whIoBfY"/>
          <p:cNvPicPr/>
          <p:nvPr/>
        </p:nvPicPr>
        <p:blipFill>
          <a:blip r:embed="rId2"/>
          <a:stretch/>
        </p:blipFill>
        <p:spPr>
          <a:xfrm>
            <a:off x="214200" y="214200"/>
            <a:ext cx="16002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r>
              <a:rPr b="1" lang="ru-RU" sz="2800" spc="-1" strike="noStrike">
                <a:solidFill>
                  <a:srgbClr val="1b4171"/>
                </a:solidFill>
                <a:latin typeface="Candara"/>
              </a:rPr>
              <a:t>Спасибо за внимание!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ndara"/>
              </a:rPr>
              <a:t>Представление сведений о доходах, расходах,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Candara"/>
              </a:rPr>
              <a:t>об имуществе и обязательствах имущественного характера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871560" y="1785960"/>
            <a:ext cx="74088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ПРЕДСТАВЛЯЮТСЯ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Скругленный прямоугольник 4"/>
          <p:cNvSpPr/>
          <p:nvPr/>
        </p:nvSpPr>
        <p:spPr>
          <a:xfrm>
            <a:off x="1028880" y="2421000"/>
            <a:ext cx="3276360" cy="1508040"/>
          </a:xfrm>
          <a:prstGeom prst="roundRect">
            <a:avLst>
              <a:gd name="adj" fmla="val 16667"/>
            </a:avLst>
          </a:prstGeom>
          <a:solidFill>
            <a:srgbClr val="31b6fd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Candara"/>
              </a:rPr>
              <a:t>лицами, претендующими на замещение должностей руководителей  муниципальных учреждений, должностей муниципальной служб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Стрелка вниз 5"/>
          <p:cNvSpPr/>
          <p:nvPr/>
        </p:nvSpPr>
        <p:spPr>
          <a:xfrm>
            <a:off x="2286000" y="4000680"/>
            <a:ext cx="720720" cy="5508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1b6fd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Скругленный прямоугольник 6"/>
          <p:cNvSpPr/>
          <p:nvPr/>
        </p:nvSpPr>
        <p:spPr>
          <a:xfrm>
            <a:off x="857160" y="4572000"/>
            <a:ext cx="7559640" cy="642960"/>
          </a:xfrm>
          <a:prstGeom prst="roundRect">
            <a:avLst>
              <a:gd name="adj" fmla="val 16667"/>
            </a:avLst>
          </a:prstGeom>
          <a:solidFill>
            <a:srgbClr val="31b6fd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ndar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Candara"/>
              </a:rPr>
              <a:t>в отношении своих доходов и доходов супруги (супруга) и несовершеннолетних дете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Скругленный прямоугольник 7"/>
          <p:cNvSpPr/>
          <p:nvPr/>
        </p:nvSpPr>
        <p:spPr>
          <a:xfrm>
            <a:off x="4884840" y="2421000"/>
            <a:ext cx="3124080" cy="1508040"/>
          </a:xfrm>
          <a:prstGeom prst="roundRect">
            <a:avLst>
              <a:gd name="adj" fmla="val 16667"/>
            </a:avLst>
          </a:prstGeom>
          <a:solidFill>
            <a:srgbClr val="31b6fd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Candara"/>
              </a:rPr>
              <a:t>лицами, замещающими должности руководителей муниципальных учреждени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Стрелка вниз 8"/>
          <p:cNvSpPr/>
          <p:nvPr/>
        </p:nvSpPr>
        <p:spPr>
          <a:xfrm>
            <a:off x="6143760" y="4000680"/>
            <a:ext cx="720720" cy="5508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1b6fd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Овал 9"/>
          <p:cNvSpPr/>
          <p:nvPr/>
        </p:nvSpPr>
        <p:spPr>
          <a:xfrm>
            <a:off x="1071720" y="5357880"/>
            <a:ext cx="3286080" cy="1357200"/>
          </a:xfrm>
          <a:prstGeom prst="ellipse">
            <a:avLst/>
          </a:prstGeom>
          <a:solidFill>
            <a:srgbClr val="31b6fd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ndara"/>
              </a:rPr>
              <a:t>по состоянию на первое число месяца, предшествующего месяцу подачи документов для назначения на соответствующую должность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Овал 10"/>
          <p:cNvSpPr/>
          <p:nvPr/>
        </p:nvSpPr>
        <p:spPr>
          <a:xfrm>
            <a:off x="5072040" y="5357880"/>
            <a:ext cx="2786040" cy="1357200"/>
          </a:xfrm>
          <a:prstGeom prst="ellipse">
            <a:avLst/>
          </a:prstGeom>
          <a:solidFill>
            <a:srgbClr val="31b6fd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ndara"/>
              </a:rPr>
              <a:t>не позднее 30 апрел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3" name="Picture 6" descr="D:\My docs\Мои рисунки\портал 4.bmp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4" name=""/>
          <p:cNvGraphicFramePr/>
          <p:nvPr/>
        </p:nvGraphicFramePr>
        <p:xfrm>
          <a:off x="566640" y="1700280"/>
          <a:ext cx="8001000" cy="4465440"/>
        </p:xfrm>
        <a:graphic>
          <a:graphicData uri="http://schemas.openxmlformats.org/drawingml/2006/table">
            <a:tbl>
              <a:tblPr/>
              <a:tblGrid>
                <a:gridCol w="333360"/>
                <a:gridCol w="885960"/>
                <a:gridCol w="6781680"/>
              </a:tblGrid>
              <a:tr h="491040"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муниципального образования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сылка на страницу официального сайта, содержащую сведения о доходах, об имуществе и обязательствах имущественного характера, об источниках получения средств, за счет которых совершена сдел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280"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родские округ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род Ачинск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0080ff"/>
                          </a:solidFill>
                          <a:uFillTx/>
                          <a:latin typeface="Arial Cyr"/>
                          <a:hlinkClick r:id="rId1"/>
                        </a:rPr>
                        <a:t>http://adm-achinsk.ru/administratsiya/svedeniya-o-dokhodakh-i-imushchestve.htm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600"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род Богото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0080ff"/>
                          </a:solidFill>
                          <a:uFillTx/>
                          <a:latin typeface="Arial Cyr"/>
                          <a:hlinkClick r:id="rId2"/>
                        </a:rPr>
                        <a:t>http://bogotolcity.ru/administration/reports/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680"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род Бороди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0000ff"/>
                          </a:solidFill>
                          <a:uFillTx/>
                          <a:latin typeface="Arial Cyr"/>
                        </a:rPr>
                        <a:t>http://www.sibborodino.ru/index.php/ispolnitelnaya-vlast/item/1995-%D1%81%D0%B2%D0%B5%D0%B4%D0%B5%D0%BD%D0%B8%D1%8F-%D0%BE-%D0%B4%D0%BE%D1%85%D0%BE%D0%B4%D0%B0%D1%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240"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род Дивногорс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0000ff"/>
                          </a:solidFill>
                          <a:uFillTx/>
                          <a:latin typeface="Arial Cyr"/>
                        </a:rPr>
                        <a:t>http://www.divnogorsk-adm.ru/index.php/glavnaya-stranitsa-2/administratsiya-goroda/item/799-svedeniya-o-dokhodakh-munitsipalnykh-sluzhashchikh-za-2013-god?template=divnogorsk_be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род Енисейс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0000ff"/>
                          </a:solidFill>
                          <a:uFillTx/>
                          <a:latin typeface="Arial Cyr"/>
                        </a:rPr>
                        <a:t>http://www.eniseysk.com/Organy%20mestnogo%20samoupravlenija/Administracija%20goroda/Svedenija%20o%20dohodah%20ob%20imuwestve%20i%20objazatelstvah%20imuwestvennogo%20haraktera/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род Канс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0000ff"/>
                          </a:solidFill>
                          <a:uFillTx/>
                          <a:latin typeface="Arial Cyr"/>
                        </a:rPr>
                        <a:t>http://www.kansk-adm.ru/Administratsiya_goroda/kadrovaya_politik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280"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род Красноярск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0000ff"/>
                          </a:solidFill>
                          <a:uFillTx/>
                          <a:latin typeface="Arial Cyr"/>
                        </a:rPr>
                        <a:t>http://www.admkrsk.ru/clerk/incomes/pages/default.asp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280"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0000ff"/>
                          </a:solidFill>
                          <a:uFillTx/>
                          <a:latin typeface="Arial Cyr"/>
                        </a:rPr>
                        <a:t>http://www.admkrsk.ru/clerk/rasxodi/Pages/default.asp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0000ff"/>
                          </a:solidFill>
                          <a:uFillTx/>
                          <a:latin typeface="Arial Cyr"/>
                        </a:rPr>
                        <a:t>http://www.gorsovet.admkrsk.ru/vacancy/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280"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род Лесосибирс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0000ff"/>
                          </a:solidFill>
                          <a:uFillTx/>
                          <a:latin typeface="Arial Cyr"/>
                        </a:rPr>
                        <a:t>http://lesosibirsk.krskstate.ru/msu/admin/page47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род Минусинс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0000ff"/>
                          </a:solidFill>
                          <a:uFillTx/>
                          <a:latin typeface="Arial Cyr"/>
                        </a:rPr>
                        <a:t>http://www.minusinsk.info/?mode=documents&amp;level=438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280"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0000ff"/>
                          </a:solidFill>
                          <a:uFillTx/>
                          <a:latin typeface="Arial Cyr"/>
                        </a:rPr>
                        <a:t>http://www.minusinsk.info/?mode=dohoddum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600"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род Назаров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0000ff"/>
                          </a:solidFill>
                          <a:uFillTx/>
                          <a:latin typeface="Arial Cyr"/>
                        </a:rPr>
                        <a:t>http://www.nazarovograd.ru/gov/sved/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0000ff"/>
                          </a:solidFill>
                          <a:uFillTx/>
                          <a:latin typeface="Arial Cyr"/>
                        </a:rPr>
                        <a:t>http://www.nazarovograd.ru/sovet/15/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080"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род Норильс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0000ff"/>
                          </a:solidFill>
                          <a:uFillTx/>
                          <a:latin typeface="Arial Cyr"/>
                        </a:rPr>
                        <a:t>http://www.norilsk-city.ru/administration/29291/index.shtm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ndara"/>
              </a:rPr>
              <a:t>Информация о размещении на официальных сайтах муниципальных образований Красноярского края  сведений о доходах, об имуществе и обязательствах имущественного характера, об источниках получения средств, за счет которых совершена сделка,  представленных лицами, замещающими муниципальные должности и должности муниципальной службы за 2013 год</a:t>
            </a:r>
            <a:br>
              <a:rPr sz="1400"/>
            </a:br>
            <a:r>
              <a:rPr b="1" lang="en-US" sz="1400" spc="-1" strike="noStrike" u="sng">
                <a:solidFill>
                  <a:srgbClr val="ffffff"/>
                </a:solidFill>
                <a:uFillTx/>
                <a:latin typeface="Candara"/>
              </a:rPr>
              <a:t>http://www.krskstate.ru/msu/dohod</a:t>
            </a:r>
            <a:endParaRPr b="0" lang="en-US" sz="1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8" name="Picture 5" descr="D:\My docs\Мои рисунки\портал 7.bmp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1" name="Picture 5" descr="D:\My docs\Мои рисунки\портал 8.bmp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Номер слайда 3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3ECE-20A4-4A9D-9D9C-9F7275A2FEE2}" type="slidenum">
              <a:rPr b="0" lang="ru-RU" sz="1000" spc="-1" strike="noStrike">
                <a:solidFill>
                  <a:srgbClr val="073e87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3" name="Picture 6" descr="C:\Users\Ira\Desktop\Круглые столы февраль - март 2015\10.02.2015\кп1.bmp"/>
          <p:cNvPicPr/>
          <p:nvPr/>
        </p:nvPicPr>
        <p:blipFill>
          <a:blip r:embed="rId1"/>
          <a:stretch/>
        </p:blipFill>
        <p:spPr>
          <a:xfrm>
            <a:off x="-285840" y="-214200"/>
            <a:ext cx="9429840" cy="70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ndara"/>
              </a:rPr>
              <a:t>Уточнение сведений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871560" y="1785960"/>
            <a:ext cx="74088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уточняются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6" name="Скругленный прямоугольник 4"/>
          <p:cNvSpPr/>
          <p:nvPr/>
        </p:nvSpPr>
        <p:spPr>
          <a:xfrm>
            <a:off x="1028880" y="2421000"/>
            <a:ext cx="6829200" cy="1508040"/>
          </a:xfrm>
          <a:prstGeom prst="roundRect">
            <a:avLst>
              <a:gd name="adj" fmla="val 16667"/>
            </a:avLst>
          </a:prstGeom>
          <a:solidFill>
            <a:srgbClr val="31b6fd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Candara"/>
              </a:rPr>
              <a:t>сведения о доходах, об имуществе и обязательствах имущественного характер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Стрелка вниз 5"/>
          <p:cNvSpPr/>
          <p:nvPr/>
        </p:nvSpPr>
        <p:spPr>
          <a:xfrm>
            <a:off x="4138560" y="3973680"/>
            <a:ext cx="720720" cy="5508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1b6fd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Овал 9"/>
          <p:cNvSpPr/>
          <p:nvPr/>
        </p:nvSpPr>
        <p:spPr>
          <a:xfrm>
            <a:off x="826920" y="4524480"/>
            <a:ext cx="3530880" cy="2190600"/>
          </a:xfrm>
          <a:prstGeom prst="ellipse">
            <a:avLst/>
          </a:prstGeom>
          <a:solidFill>
            <a:srgbClr val="31b6fd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31f43"/>
                </a:solidFill>
                <a:latin typeface="Candara"/>
              </a:rPr>
              <a:t>Лицами, претендующими на замещение должностей муниципальной службы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ndara"/>
              </a:rPr>
              <a:t>- в течение месяца со дня представления сведени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Овал 10"/>
          <p:cNvSpPr/>
          <p:nvPr/>
        </p:nvSpPr>
        <p:spPr>
          <a:xfrm>
            <a:off x="4859280" y="4524480"/>
            <a:ext cx="3457800" cy="2190600"/>
          </a:xfrm>
          <a:prstGeom prst="ellipse">
            <a:avLst/>
          </a:prstGeom>
          <a:solidFill>
            <a:srgbClr val="31b6fd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31f43"/>
                </a:solidFill>
                <a:latin typeface="Candara"/>
              </a:rPr>
              <a:t>Лицами, замещающими муниципальные должности и должности муниципальной службы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ndara"/>
              </a:rPr>
              <a:t>– </a:t>
            </a:r>
            <a:r>
              <a:rPr b="1" lang="ru-RU" sz="1600" spc="-1" strike="noStrike">
                <a:solidFill>
                  <a:srgbClr val="ff0000"/>
                </a:solidFill>
                <a:latin typeface="Candara"/>
              </a:rPr>
              <a:t>в течение месяца после 30 апреля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09:11:25Z</dcterms:created>
  <dc:creator>Романова М.П.</dc:creator>
  <dc:description/>
  <dc:language>en-US</dc:language>
  <cp:lastModifiedBy>Табакова Ирина Николаевна</cp:lastModifiedBy>
  <cp:lastPrinted>2013-06-19T06:57:21Z</cp:lastPrinted>
  <dcterms:modified xsi:type="dcterms:W3CDTF">2015-02-25T10:54:12Z</dcterms:modified>
  <cp:revision>300</cp:revision>
  <dc:subject/>
  <dc:title>О состоянии правового регулирования и практике реформирования государственной гражданской службы Красноярского края  Красноярск 15 октября 2009 года</dc:title>
</cp:coreProperties>
</file>